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MSj00748430000%5B1%5D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74F-F377-4E5F-8112-2AA71AD4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671-B604-406D-B1C6-B246C893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2CC-59A4-4C19-86AB-E55D7E42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EDA-B2AE-4321-A8D3-8A9C0516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B274-7CD7-43E3-9770-0E1BF180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0828-A191-4F51-BA70-BB8EF5DF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72B-B0C6-4541-A85C-0FA94523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6C06-0271-4D5E-93F0-C4007D98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C406-8A10-439C-ABE4-CAD5BC43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C8C2-361F-4096-821C-7DFDB456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440A-7048-49D8-B0EA-518AB993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926-05BE-48CB-B04F-9AC8545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0D1C-2D25-4389-BC69-4506B48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FA77-5465-4862-8467-2F1356D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DED-F4C5-487E-ABBF-C8352842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6C55-F78B-4A4B-9CAA-89993DA2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0B88-8FE4-40DD-982B-12397FD0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A6B-DCCF-41DB-A80A-9B63EF3C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6CB-71A5-4BCA-A9D0-8AC81018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1BC-FC44-4F80-873A-545E884E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208-6246-4D9E-A0B6-932B3F90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904-BE58-4178-AD76-603FE7E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2B0-1B64-4C31-9E78-D35EF59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19D-EB86-41D0-89C9-B349E8A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5F4-1AD9-4C1D-A147-7628DF6690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B98-7B29-4E68-9800-5C0D9D9ADD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MSj00748430000%5B1%5D.wav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1552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3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LL DON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did it…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2176560" cy="2205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1424160" cy="1717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2382840" cy="206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1212840" cy="196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1816200" cy="1731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2624040" cy="1750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ock"/>
          <p:cNvSpPr/>
          <p:nvPr/>
        </p:nvSpPr>
        <p:spPr>
          <a:xfrm>
            <a:off x="395280" y="1773360"/>
            <a:ext cx="1492200" cy="311616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6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2124000" cy="2938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8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0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0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Cynthia</cp:lastModifiedBy>
  <dcterms:modified xsi:type="dcterms:W3CDTF">2010-11-13T22:18:31Z</dcterms:modified>
  <cp:revision>9</cp:revision>
  <dc:subject/>
  <dc:title>Making Words</dc:title>
</cp:coreProperties>
</file>